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91F-5A64-443C-B390-8582EB56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141-2BA7-40A2-BD1F-329AB332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9B7-0DC2-474B-A880-F714BD70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5855-C797-462D-8D61-E15BDE0B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EAF6-E7FD-4971-B0EA-7D6A5439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7D2A-AFEE-4F5C-BD4A-F5D3940A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EAB-3D50-47EC-8256-10CEA9AF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8372-F143-4141-BE53-C762DAAE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428-88C5-468D-AA63-E339658C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6E63-6719-466B-BC61-50F4B866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7CE9-4C5E-49AC-B515-5065C1E7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6D0A-8431-4339-87CF-0DC22561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4848-56BA-4598-BF5D-ECA4C93C0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29000" y="0"/>
            <a:ext cx="5715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d ma maman a oublié mon anniversai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e n’ai même pas pleuré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d ma maman était trop occupée pour moi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e n’ai même pas pleuré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419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n, d’accord! Je m’appelle Jonathan e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e ne pleure jamais-même s’il y a une inondat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114800" y="0"/>
            <a:ext cx="5029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ce que je sais que ma maman m’aim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 m’appelle Jonathan et je ne pleure jamais. Quand je suis tomb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é à bicyclette, je n’ai même pas pleuré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nd je me suis fai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éclabousser par les camions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je n’ai même pas pleur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4419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and je me suis coupé avec mes nouveaux ciseaux, je n’ai même pas pleur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37339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and je suis allé chez le dentiste, il m’a réparé toutes les dents parce que j’avais mangé trop de chocolat, mais je n’ai même pas pleuré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19112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and ma cousine Daphné, experte en karaté, a cassé tous mes jouets, je n’ai même pas pleuré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715000" y="2971800"/>
            <a:ext cx="327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and les policiers sont venus m’arrêter, je n’ai même pas pleuré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486400" y="1600200"/>
            <a:ext cx="3657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and le docteur m’a donné ma première piqure sur les fesses, je n’ai même pas pleuré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7:18:13Z</dcterms:created>
  <dc:creator>CVJH-LAB</dc:creator>
  <dc:description/>
  <dc:language>en-US</dc:language>
  <cp:lastModifiedBy>nield411</cp:lastModifiedBy>
  <dcterms:modified xsi:type="dcterms:W3CDTF">2008-02-27T04:56:33Z</dcterms:modified>
  <cp:revision>11</cp:revision>
  <dc:subject/>
  <dc:title>Slide 1</dc:title>
</cp:coreProperties>
</file>